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12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5EB-8997-481E-9975-8C04F9EB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029-1ADD-4E40-BA53-F3F45A1E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640-17C3-4AE6-851F-E4C12ACE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230-AA61-440A-B185-C0CCA80B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6D6D-54EF-49BB-A202-90A7B092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E604-1C15-43AE-87FD-4E4772E5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C8E9-3C44-4DD4-8B2C-116116F3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398E-4EAD-4AE2-9FF0-19391FF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958D-4051-47C7-84A8-BFE3C47D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6D6F-12F6-4981-BCFF-8DE868BD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71B9-20DD-45B6-9140-A4FAB17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5BB-0234-4C90-BC81-A5928581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7447-1A67-41D0-B8CD-CAA306E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D76-18DC-468E-BC55-496F4A2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B419-4820-4133-ADA9-350CB5CA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644C-73F2-47B7-8062-FF7FEFA6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CDD6-729B-496E-9C0B-10F9EF33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D81-75BC-478F-9038-27C26FBB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FE2-4249-428E-8002-8E4E818A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878-95F2-4212-9794-5565FEE8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0F7-E724-41FB-829F-BCF462B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6BF-2F95-4D5F-AAB8-35964AF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6D7-2C94-47B2-8AF7-8FD937F4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E31-A480-4C83-BC17-485A6818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E62A-EDC0-49A6-BFC6-B3E0614E40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3E7-BB39-47B3-87D0-53B855BE39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kathy.pbwiki.com/" TargetMode="External"/><Relationship Id="rId2" Type="http://schemas.openxmlformats.org/officeDocument/2006/relationships/hyperlink" Target="http://sites.google.com/site/teacherjoefsmh/7th-grade-english-page" TargetMode="External"/><Relationship Id="rId3" Type="http://schemas.openxmlformats.org/officeDocument/2006/relationships/hyperlink" Target="http://sites.google.com/site/teacherjoefsmh/7th-grade-english-page" TargetMode="External"/><Relationship Id="rId4" Type="http://schemas.openxmlformats.org/officeDocument/2006/relationships/hyperlink" Target="http://sites.google.com/site/teacherjoefsmh/7th-grade-english-page" TargetMode="External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ends School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ullica Hill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81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P Project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ture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e a Virtual Learning Community (VLC) for Leadership Tea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41972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tinuing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ology Evaluation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724280" y="167652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arly teacher self-assessment of their computer literacy and grow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chers will add a technology goal to their yearly professional growth p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1160" y="1600200"/>
            <a:ext cx="3129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tinuing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wth and Support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chers will share their projects and activities in division meetings and full faculty meet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3415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tinuing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wth and Support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00600" y="18288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TEC Committee will help facilitate teachers’ technology goals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 the 21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 and Bey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Buzz Lightyear and the words 'To Infinity and Beyond!'"/>
          <p:cNvPicPr/>
          <p:nvPr/>
        </p:nvPicPr>
        <p:blipFill>
          <a:blip r:embed="rId2"/>
          <a:stretch/>
        </p:blipFill>
        <p:spPr>
          <a:xfrm>
            <a:off x="838080" y="1125360"/>
            <a:ext cx="762012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P Project Goa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odel and encourage the use of 21st Century skills and digital techn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support our teachers in the implementation of the Web 2.0 tools in their classroom by  provi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pdated equip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fessional develop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enable our teachers to develop a curriculum which includes skills students will need for the 21st Century and beyond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Evaluate and provide a wish list for technology equip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5105520" cy="2766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2743200" cy="224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05720" y="1981080"/>
            <a:ext cx="2438280" cy="1067040"/>
          </a:xfrm>
          <a:prstGeom prst="leftArrow">
            <a:avLst>
              <a:gd name="adj1" fmla="val 50000"/>
              <a:gd name="adj2" fmla="val 5712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 Equip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952880"/>
            <a:ext cx="2652480" cy="1219320"/>
          </a:xfrm>
          <a:prstGeom prst="rightArrow">
            <a:avLst>
              <a:gd name="adj1" fmla="val 50000"/>
              <a:gd name="adj2" fmla="val 5438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51055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51814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ture Computer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Technology Initiativ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aluate faculty’s computer litera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velop Web 2.0 tools and basic skills workshops to support faculty memb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53160" y="2514600"/>
            <a:ext cx="4290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0"/>
          <a:ext cx="8431200" cy="77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431200" cy="77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Technology Initiativ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faculty support for posting blogs on teacher pages on our new school websi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econd Grade Class Wi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Teacher Joe'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iGoogl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Si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ture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 a Technology Exploring and Cheerleading Committee (TECC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3048120" cy="24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ture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a new Accepted Use Policy (AUP) that addresses social network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984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ture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pdate the technology curriculum to include social networking skills and Web 2.0 too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4167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38:35Z</dcterms:created>
  <dc:creator>ksaia</dc:creator>
  <dc:description/>
  <dc:language>en-US</dc:language>
  <cp:lastModifiedBy>nicole</cp:lastModifiedBy>
  <dcterms:modified xsi:type="dcterms:W3CDTF">2009-04-01T16:08:30Z</dcterms:modified>
  <cp:revision>32</cp:revision>
  <dc:subject/>
  <dc:title>Friends School Mullica Hill </dc:title>
</cp:coreProperties>
</file>